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C8B-45F3-4DEF-8753-B25294AC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8D9-2B31-49FC-B9C7-7374EA1B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7D0196-7FDB-40A1-9EB0-6B97426A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F1514-EE28-4164-A529-E50A9B99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1CB0E-D6A6-4D81-B6BF-7F82E955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3046F-EE4D-42EF-A76A-0A5C225A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0AFB6-B291-4704-83E1-F808D190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50F745-3012-4865-B49F-F48955BC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5168E-C6F5-4633-AD1C-4A4A9690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5DF799-3E91-4E2C-B71D-38687205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32B047-5EE0-43DA-B624-8D1EB847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C54-C6C4-41B9-93B7-3E4DE5CC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340-37EA-4DA7-A525-E3F3E28C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9644C-B28C-4DA2-B8C4-5E35BE75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52933-2676-4A77-93B6-F332922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9BCA7-4E3E-45AD-BABA-7CFCC151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9C24E-03D4-4501-87AA-982998D9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BDB12-F5AF-46BA-B1CB-B0BF8D05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F909E-EB6B-4EA1-86B7-5C05913B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D1C52-30F7-4335-9BE0-796D69FD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86E-2C5A-44F8-82D9-8351E38C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6B913-8F7F-450B-9C5B-30AB3E40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7CB35-FABF-4A37-A435-65EDC4A5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4A063-134D-40F5-9FAD-FA0323E2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98C35-22E3-4586-8144-E4CBFDBA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5137A-FA3E-437C-9D66-0BFAA347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897F-3AD5-46D6-A2AB-35381193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A0EA-E0AD-43EF-88B9-C086DEAD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B8DE-076C-4A16-8D16-FE8F8D89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C4C8-F4E4-4EAE-BE42-6A325202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CB7E-A004-45C2-9411-FE0218FF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F73-1062-4520-ACF9-D146260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1DE5-5D2F-4901-8D27-B50149E6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F2ED-11F6-47D5-9AE6-2205255D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7C62-B811-47B4-9FB0-0CA0D023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4C9F-99D3-48B4-8087-EBACB253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4103C-FD69-4238-921D-9633B703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8834-ECB5-4A06-87C6-02E5454A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72327-A8A5-4698-A852-AF7A7745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7A5B8-8E60-42BF-BABD-48E68FA3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9D649-A2FD-47D3-9BBB-288E42C9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DEE98-F586-4AFE-B0CD-3439C5D0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41A-B03C-456B-BC0B-A62F1E53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28278-56DC-443C-BAD9-1DE7BB4F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7E5B8-AC6A-4DE9-BA43-C4774E7B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228D5-C86F-4324-9061-AF870C6B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B0E47-E532-44CF-8A87-C3457176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23C90-C24E-49D8-B1BD-C2ED2BD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395ED-13F4-489D-9309-8B0D6C9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00A50-65D3-470B-8401-EE7C97E3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E7147-1B52-48D4-885E-47050C25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084EE-97F3-4A84-BECF-FE15B52A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5BF8E-1AF7-422F-A0D4-C87A4C73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A9D-3CF2-4A2C-B12F-80D644ED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C4B4-00B2-4702-9E01-D3CD136C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DD29-24DC-41E4-A7C6-BCC809F2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1B3F-93C0-4145-BD9C-0180B4B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69FD-E6EA-4457-A514-832BBB0D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2045-8193-4FBC-A611-DCC5A2C1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72890-F066-409B-9EFA-533616D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0B60E-128A-478C-8D18-DD14C078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5CAF2-C12F-4DB5-809C-111ABF50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BE01-6D59-4FED-A45A-9123165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C4654-E229-42BE-B9B9-021C39AA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2A4-3634-441B-9242-8C8EB877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F8C9-D73A-4185-98A9-BD2E5DE9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D8920-CDAC-48FB-9570-2527B698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0D3C8-3526-4286-9720-B761F00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DE4FD-27A9-409F-9617-0FDC40F5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A37D4-9928-4C5D-B719-0179B705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18B1D-EBFF-44F4-A73C-0BC44E0E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4DC6-D3BE-48B0-8FD1-02A72650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CA46-8B51-4CA6-B709-7DB2177F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5F10-B721-4DA4-B34B-719590D7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D1E7D-80DF-4231-95FB-80E7D59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DB0-C24A-4190-8466-BDE9E0D4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A7AFE-FABC-471E-B9D9-D9DB5569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31B7-724E-424F-85DD-8BE1A7AE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99C5D-59D1-43DD-8179-DDC65DF3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BEB23-4B32-42BC-9FF2-D4E0DB70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BE497-A41C-4F74-864B-F4FD308D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754C7-4BA7-4F84-92C2-3B5C3DC5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100FD-196D-4103-8DD9-B9BAD17F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242F6-F1EC-4D0B-802E-31F8CD30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1C57E-A547-4959-BD26-6C686558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63EBE-D743-4605-85CC-1C8680D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CA7-CE12-4088-A281-683AA44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30AE2-C1D7-4FFF-9F81-F8B1C82E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D286E-15A1-4EF0-9854-FC6DB459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6F49-E099-414B-88A4-D8DB4748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F7D2A-48F8-4F45-A183-58F1DFB9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CE964-B7D2-4F44-8D74-DC9C4587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EE6066-1FAB-4898-BDD1-5CFE58F0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6ADFC9-6D47-41D0-B0F9-F19F62BF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A634BF-6597-4D05-B0D8-4A9022A3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44F98A-3AA2-4987-B55E-4BF56F2F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515BC1-D186-4C79-A1A1-A0770CAB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D5D-C6D8-416A-9D11-048C2400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B92564-6CDB-4B8A-AE1C-EAB517A0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E836C-9B05-461A-A000-02E7E7A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0F3F1D-1C6D-4327-8299-3677EC9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852733-27C0-4489-872F-78DD919F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7C5FD-06A8-4BBD-95CB-CCC527C9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A8A179-A822-4306-911B-71E10FAA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791D82-F820-41E8-AD54-0275A5F3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8782D7-BA4A-4622-94BE-1108EFEE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032E4-6FAC-4DE7-BE06-92D96E79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149770-DD05-4906-9D72-0304D408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E32B-7DFF-445E-989F-AD0233A92D9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E2E0-FBAA-4751-8B02-09BCB2F0426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389-0EA0-4634-A21E-AD213F0E0A9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0395-0CF4-4D29-9D2E-E323A9D5446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7F3B-5B8C-400F-B592-7333B30E7588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96CA-02D6-4319-A601-5F6FD381533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87F9-E3A9-4EAA-BE51-4AB43B56FE9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3141-3829-4423-816D-E2152F73E1D2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7BF1-9DA3-471C-BE09-D4B1D98BB1A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PQuestion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620200" cy="14763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et plenty of detentions in clas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04000" indent="-50400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egin studying early and reviewing often </a:t>
            </a: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(correct answer)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04000" indent="-50400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at your study guide without looking at it first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04000" indent="-50400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ring Mrs. Oehler a cookie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PQuestion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626680" cy="14763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Only lasted a few year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42080" indent="-4420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as marked by great bloodshed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42080" indent="-4420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unified China, ending a period of conflict between kingdoms </a:t>
            </a: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(correct answer)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42080" indent="-4420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as a period of few cultural accomplish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Content Placeholder 2" descr=""/>
          <p:cNvPicPr/>
          <p:nvPr/>
        </p:nvPicPr>
        <p:blipFill>
          <a:blip r:embed="rId2"/>
          <a:stretch/>
        </p:blipFill>
        <p:spPr>
          <a:xfrm>
            <a:off x="390600" y="1560600"/>
            <a:ext cx="834552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Cities and Trade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urplus crops allows Chinese to focus on other things as well (education, medicine, art, etc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rade grows along with population in citi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Grand Canal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increases trade within China – allows remote rural areas to transport crops to citi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hina expands trade (Silk Roads) –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tea, rice, spices, jade, silk, porcelain = all big exports for Ch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ong Dynasty – sea trade becomes more common = greater connection with more distant lands (Europe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PQuestion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ice of goods increased throughout China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(correct answer)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ncreased food production supported population growth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ities grew throughout Ch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 Chinese were able to devote more time to other things, leading new achievement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Inventions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Woodblock Printing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– form of printing where entire pages are carved into a block of wood. (Tang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recursor to the printing pres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llowed written sources to be more widely available – expansion of ideas, information, technology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Gunpowder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– originally used for fireworks, this item was eventually used for firearms (guns) and cannons = changed the history of war. (Tang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Compass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– Instrument using earth’s magnetic pull to show direction = revolutionized travel, trade, etc. (Tang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Confucianism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eachings on ethics, proper behavior, etc. – translates to government structure in Ch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n (concern for others) / Li (appropriate behavior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opular during Han Dynasty – loses influence during Period of Disunion (Buddhism takes center stage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Late Tang Dynasty = return of interest in Confucianism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Neo-Confucianism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= develops during Tang to combine ideas of Confucianism (behavior and conduct) with spiritual components of Buddhism and Daoism (meaning of life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51640" indent="-17676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egins under Tang but becomes influential under Song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51640" indent="-17676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Official government policy of the Song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Scholar-Officials: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ong Dynasty = improves efficiency of government through development of 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Bureaucracy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Bureaucracy = body of unelected government officials (selected by leaders to be official advisors)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ong develop civil service exam (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civil service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= service to society as a government official) to help choose official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assing civil service exam meant life as a Scholar-Officia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Respected, educated member of the government.  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ivil service exam = symbolized a shift towards “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meritocracy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” where people’s success in society was determined by their hard work and effort (earning what they receive)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dea of meritocracy is not popular with “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aristocracy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” (wealthy members of society who had previously ruled China) – felt their power/wealth would be threatened by new system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PQuestion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t created stability and an efficient government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(correct answer)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88520" indent="-48852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t created a government in which nothing was accomplished due to mismanagement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88520" indent="-48852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t created sharp divisions within society, eventually leading to a civil war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88520" indent="-48852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t created a very unstable government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Mongols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Nomadic tribes from plains north of China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Known for being talented horsemen and warrior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First powerful leader of Mongols (known as a Khan) to unite all Mongol tribes was </a:t>
            </a:r>
            <a:r>
              <a:rPr b="0" lang="en-US" sz="2200" spc="-1" strike="noStrike">
                <a:solidFill>
                  <a:srgbClr val="ff0000"/>
                </a:solidFill>
                <a:latin typeface="Rockwell"/>
              </a:rPr>
              <a:t>Genghis Khan</a:t>
            </a: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Genghis Khan 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= amassed a large army that conquered all of north China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Kublai Khan 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= grandson of Genghis Khan; conquered remainder of China and created the Mongol Empire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Kublai Khan named himself Emperor of China – this started the 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Yuan Dynasty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Chinese saw Mongols as rude and uncivilized = resented being controlled by the Mongols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Yuan control of China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ongols do not force Chinese to change, but they do maintain control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nfucian scholars are kept from gaining too much power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ongols placed heavy taxes on Chinese – these taxes were used to fund public-works projects (like extending the Grand Canal)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ongol soldiers are sent throughout China to maintain peace and keep an eye on Chinese (prevent uprisings)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Mongols encourage trade with foreigners (Europeans)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xample:  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Marco Polo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– famous trader from Italy.  Much of what we know about China is as a result of his writings about his journeys to China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arco Polo helps change perception of China  - writings showed that they were advanced and not barbarian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it Revie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Yuan Dynasty Collapses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ongols = unhappy with their land – desire to conquer Japan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ttempts at conquering Japan are unsuccessful = Mongol army is weakened in the proces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hinese economy is weakened by Mongol public-works projects (example: Grand Canal expansion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hinese are upset with Mongol rule and failed economy – Mongol army is weakened due failed conquest of Japan = people revolt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hinese are able to overthrow Mongols and regain control of their land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PQuestion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517240" cy="11826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ecuting educated schola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83480" indent="-4834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aking the Chinese pay large taxes </a:t>
            </a: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(correct answer)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83480" indent="-4834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aising prices on rice to keep Chinese poor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83480" indent="-4834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iminating all public works project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Ming Dynast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594720" indent="-2124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ing Dynasty focuses on exploration and ship building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Greatest sailor and explorer of Ming Dynasty was </a:t>
            </a:r>
            <a:r>
              <a:rPr b="0" lang="en-US" sz="1900" spc="-1" strike="noStrike">
                <a:solidFill>
                  <a:srgbClr val="ff0000"/>
                </a:solidFill>
                <a:latin typeface="Rockwell"/>
              </a:rPr>
              <a:t>Zheng He</a:t>
            </a: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Traveled as far as Persian Gulf and Africa.  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Voyages served as a sign of China’s power and advanced culture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94720" indent="-2124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ing also known for their grand building project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Forbidden City (built in Beijing) = palace in northern China designed to display China’s glory and intimidate northern neighbor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Restoration and expansion of the </a:t>
            </a:r>
            <a:r>
              <a:rPr b="0" lang="en-US" sz="1900" spc="-1" strike="noStrike">
                <a:solidFill>
                  <a:srgbClr val="ff0000"/>
                </a:solidFill>
                <a:latin typeface="Rockwell"/>
              </a:rPr>
              <a:t>Great Wall </a:t>
            </a: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of China – designed to protect Chinese people from northern tribe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ing Dynasty moves towards </a:t>
            </a: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Isolation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Having expelled the Mongols, Ming emperors sought to get rid of all foreigners/foreign influence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Believed it would lead to greater safety and prosperity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Government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Ming emperors = much more powerful that emperors of Tang or Song dynasty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Emperors take over more control of government – use civil service officials as imperial staff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solationism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430’s = Zheng He required to return to China and dismantle fleet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fficial policy of </a:t>
            </a:r>
            <a:r>
              <a:rPr b="0" lang="en-US" sz="2600" spc="-1" strike="noStrike">
                <a:solidFill>
                  <a:srgbClr val="ff0000"/>
                </a:solidFill>
                <a:latin typeface="Rockwell"/>
              </a:rPr>
              <a:t>Isolationism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put into effect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onsequences = Western world makes large advances in education, technology, etc.  - China does not progress as much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fter the last Ming emperor is overthrown, China finds itself behind the rest of the world due to isolationism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cxnSp>
        <p:nvCxnSpPr>
          <p:cNvPr id="399" name="Straight Arrow Connector 4"/>
          <p:cNvCxnSpPr/>
          <p:nvPr/>
        </p:nvCxnSpPr>
        <p:spPr>
          <a:xfrm flipV="1">
            <a:off x="457200" y="3909240"/>
            <a:ext cx="8230320" cy="2520"/>
          </a:xfrm>
          <a:prstGeom prst="straightConnector1">
            <a:avLst/>
          </a:prstGeom>
          <a:ln w="9360">
            <a:solidFill>
              <a:srgbClr val="67936a"/>
            </a:solidFill>
            <a:miter/>
            <a:headEnd len="med" type="arrow" w="med"/>
            <a:tailEnd len="med" type="arrow" w="med"/>
          </a:ln>
        </p:spPr>
      </p:cxnSp>
      <p:sp>
        <p:nvSpPr>
          <p:cNvPr id="400" name="TextBox 5"/>
          <p:cNvSpPr/>
          <p:nvPr/>
        </p:nvSpPr>
        <p:spPr>
          <a:xfrm>
            <a:off x="53352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an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1676520" y="3124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eriod of Dis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51814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ong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2971800" y="3124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ui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4114800" y="3124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Tang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6400800" y="3124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Yuan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1"/>
          <p:cNvSpPr/>
          <p:nvPr/>
        </p:nvSpPr>
        <p:spPr>
          <a:xfrm>
            <a:off x="7467480" y="3124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ing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Confucianism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Practical philosophy on life and government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Deals with 5 key relationships (ruler/subject; parent/child; husband/wife; sibling/sibling; friend/friend)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Focused on traditions of respect and hard work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Buddhism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Arrives in China from India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Teaches that the world is essentially suffering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All people are on a path towards enlightenment (Nirvana)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ssential part of achieving enlightenment is overcoming personal desires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Daoism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Believe that society prospers when people have harmony with nature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Correct path (the Way or the Dao) is found in harmony between oneself and nature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Yin / Yang: opposing forces (light/dark; cold/heat; etc.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PQuestion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626680" cy="14763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45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uddhism stressed military honor and Confucianism stresses charitable deeds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45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nfucianism stresses ethical behavior and Buddhism stresses a spiritual outlook that promises escape from suffering 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(correct answer).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45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uddhism teaches people to value public service while Confucianism teaches that personal satisfaction is most important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45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nfucianism places high value on artistic talents and Buddhism teaches one to ignore art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fter Han Dynasty collapses – China splits into several rival kingdoms (</a:t>
            </a: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Period of Disunion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eriod of Disunion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ew nomads settle in N. China – Many N. Chinese move to S. Chin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Cultural blending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leads to new types of art, music, clothing, food, etc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Buddhism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becomes popular belief – liked Buddhism’s teaching that people could escape/overcome suffering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Sui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Dynast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ded Period of Disunion – Emperor </a:t>
            </a:r>
            <a:r>
              <a:rPr b="0" lang="en-US" sz="2600" spc="-1" strike="noStrike">
                <a:solidFill>
                  <a:srgbClr val="ff0000"/>
                </a:solidFill>
                <a:latin typeface="Rockwell"/>
              </a:rPr>
              <a:t>Yang Jia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gan the building of the </a:t>
            </a:r>
            <a:r>
              <a:rPr b="0" lang="en-US" sz="2600" spc="-1" strike="noStrike">
                <a:solidFill>
                  <a:srgbClr val="ff0000"/>
                </a:solidFill>
                <a:latin typeface="Rockwell"/>
              </a:rPr>
              <a:t>Grand Canal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 connect northern and southern China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Grand Canal connects major cities and major rivers – leads to easier transportation (trade, cultural blending, spreading ideas/technology)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Tang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Dynast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arge scale growth of controlled land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Golden Age” of China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nified China by: military reform, law codes, land reform (equal field system)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ncluded only woman to rule China (Empress Wu)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Song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Dynast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unified China again after brief period of chao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ke Tang Dynasty, the Song Dynasty was a period of great accomplishment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36:48Z</dcterms:created>
  <dc:creator>sduhsd</dc:creator>
  <dc:description/>
  <dc:language>en-US</dc:language>
  <cp:lastModifiedBy>Christine Miller</cp:lastModifiedBy>
  <dcterms:modified xsi:type="dcterms:W3CDTF">2011-10-31T15:12:30Z</dcterms:modified>
  <cp:revision>66</cp:revision>
  <dc:subject/>
  <dc:title>Chapter 7: China</dc:title>
</cp:coreProperties>
</file>